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75713-C6E4-403B-888B-A0CF48089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809F5-0F67-4FC1-B12B-E0A32EB99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EF404-32DD-4078-AE48-C67375CF3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70A3A-6956-4F18-85DE-C3EC8E2A3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6C927-1A61-49D8-9E4F-193F4E1A1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32E4A-2A2F-43B1-87E8-FCA5CEAB4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CCFF5-FD1A-4137-8C9C-3FE4127A2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DA7B9-2DD9-4883-8344-D38B8FF49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DC429-B9D2-4D36-9A70-1B95F6459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ED3DD-FB94-49CA-9031-361D33B45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2D894-8E33-4370-A8A9-D80FE6334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F111-245B-48E5-9C89-4473BB3F5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0F5AA-DA69-4A05-800C-45DF4FEE3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4552D-97D5-4200-A3B6-E2A9F6ADB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84260-0732-42CB-B9BE-3B333F369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E14D5-40D3-4ECB-BCC0-F3E427BA6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8CF37-85C3-4A92-8007-FA8D34A16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E5E29-D9A6-43AC-A8AA-0B3CA6925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64981-1E65-4C1F-A4D2-D311DC70F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FADB0-FA4C-47DF-A126-94657E4D5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19EBD-6881-4023-9818-ECF747116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A7208-CEEE-40C4-9645-43761D62C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4240-4728-4CBD-BFE7-9F8BDF5CE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AF762-3683-447F-A1AC-650E083A9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C5F4-A7B1-40C4-B95D-71E63383E9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Click to edit the outline text format</a:t>
            </a:r>
            <a:endParaRPr b="0" lang="en-US" sz="3200" spc="-1" strike="noStrike">
              <a:solidFill>
                <a:srgbClr val="ff6600"/>
              </a:solidFill>
              <a:latin typeface="Elephant"/>
            </a:endParaRPr>
          </a:p>
          <a:p>
            <a:pPr lvl="1" marL="743040" indent="-28584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cond Outline Level</a:t>
            </a:r>
            <a:endParaRPr b="0" lang="en-US" sz="3200" spc="-1" strike="noStrike">
              <a:solidFill>
                <a:srgbClr val="ff6600"/>
              </a:solidFill>
              <a:latin typeface="Elephant"/>
            </a:endParaRPr>
          </a:p>
          <a:p>
            <a:pPr lvl="2" marL="11430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Third Outline Level</a:t>
            </a:r>
            <a:endParaRPr b="0" lang="en-US" sz="3200" spc="-1" strike="noStrike">
              <a:solidFill>
                <a:srgbClr val="ff6600"/>
              </a:solidFill>
              <a:latin typeface="Elephant"/>
            </a:endParaRPr>
          </a:p>
          <a:p>
            <a:pPr lvl="3" marL="16002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ourth Outline Level</a:t>
            </a:r>
            <a:endParaRPr b="0" lang="en-US" sz="3200" spc="-1" strike="noStrike">
              <a:solidFill>
                <a:srgbClr val="ff6600"/>
              </a:solidFill>
              <a:latin typeface="Elephant"/>
            </a:endParaRPr>
          </a:p>
          <a:p>
            <a:pPr lvl="4" marL="20574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ifth Outline Level</a:t>
            </a:r>
            <a:endParaRPr b="0" lang="en-US" sz="3200" spc="-1" strike="noStrike">
              <a:solidFill>
                <a:srgbClr val="ff6600"/>
              </a:solidFill>
              <a:latin typeface="Elephant"/>
            </a:endParaRPr>
          </a:p>
          <a:p>
            <a:pPr lvl="5"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ixth Outline Level</a:t>
            </a:r>
            <a:endParaRPr b="0" lang="en-US" sz="3200" spc="-1" strike="noStrike">
              <a:solidFill>
                <a:srgbClr val="ff6600"/>
              </a:solidFill>
              <a:latin typeface="Elephant"/>
            </a:endParaRPr>
          </a:p>
          <a:p>
            <a:pPr lvl="6"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venth Outline Level</a:t>
            </a:r>
            <a:endParaRPr b="0" lang="en-US" sz="3200" spc="-1" strike="noStrike">
              <a:solidFill>
                <a:srgbClr val="ff6600"/>
              </a:solidFill>
              <a:latin typeface="Elephant"/>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4772-3337-44BE-9AB5-C5DB29DD14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990720" y="0"/>
            <a:ext cx="7467480" cy="7467480"/>
          </a:xfrm>
          <a:prstGeom prst="rect">
            <a:avLst/>
          </a:prstGeom>
          <a:ln w="0">
            <a:noFill/>
          </a:ln>
        </p:spPr>
      </p:pic>
      <p:sp>
        <p:nvSpPr>
          <p:cNvPr id="83" name="PlaceHolder 1"/>
          <p:cNvSpPr>
            <a:spLocks noGrp="1"/>
          </p:cNvSpPr>
          <p:nvPr>
            <p:ph type="title"/>
          </p:nvPr>
        </p:nvSpPr>
        <p:spPr>
          <a:xfrm>
            <a:off x="685800" y="175212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Elephant"/>
              </a:rPr>
              <a:t>NEIU ~ NASA </a:t>
            </a:r>
            <a:br>
              <a:rPr sz="4000"/>
            </a:br>
            <a:r>
              <a:rPr b="1" lang="en-US" sz="4000" spc="-1" strike="noStrike">
                <a:solidFill>
                  <a:srgbClr val="ffffcc"/>
                </a:solidFill>
                <a:latin typeface="Elephant"/>
              </a:rPr>
              <a:t>Endeavour Program</a:t>
            </a:r>
            <a:br>
              <a:rPr sz="4000"/>
            </a:br>
            <a:r>
              <a:rPr b="1" lang="en-US" sz="4000" spc="-1" strike="noStrike">
                <a:solidFill>
                  <a:srgbClr val="ffffcc"/>
                </a:solidFill>
                <a:latin typeface="Elephant"/>
              </a:rPr>
              <a:t>2009 ~ 20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tting Ready!</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ggy Maher, NASA Goddard Space Flight Center - Aerospace Education Specia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685800" y="45684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Pristina"/>
              </a:rPr>
              <a:t>Questions???  </a:t>
            </a:r>
            <a:r>
              <a:rPr b="1" lang="en-US" sz="9600" spc="-1" strike="noStrike">
                <a:solidFill>
                  <a:srgbClr val="ffff00"/>
                </a:solidFill>
                <a:latin typeface="Wingdings"/>
                <a:ea typeface="Wingdings"/>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lum bright="-20000"/>
          </a:blip>
          <a:stretch/>
        </p:blipFill>
        <p:spPr>
          <a:xfrm>
            <a:off x="2514600" y="228600"/>
            <a:ext cx="4259160" cy="64911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lephant"/>
              </a:rPr>
              <a:t>WELCOME TO THE NEIU</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INTRODUCTIONS</a:t>
            </a:r>
            <a:endParaRPr b="0" lang="en-US" sz="2400" spc="-1" strike="noStrike">
              <a:solidFill>
                <a:srgbClr val="000000"/>
              </a:solidFill>
              <a:latin typeface="Arial"/>
            </a:endParaRPr>
          </a:p>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LOGISTIC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88"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Attentive and Prepared</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ugh this program, we are working to blend challenging learning with fun activities.  To this end, it is important that all are attentive and prepared throughout the NEIU NASA Endeavour Program.</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1"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Teacher Supervision</a:t>
            </a:r>
            <a:endParaRPr b="0" lang="en-US" sz="3200" spc="-1" strike="noStrike">
              <a:solidFill>
                <a:srgbClr val="000000"/>
              </a:solidFill>
              <a:latin typeface="Arial"/>
            </a:endParaRPr>
          </a:p>
          <a:p>
            <a:pPr marL="609480" indent="-60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dents must be accompanied by teachers at all times.  If a student wishes to be excused for a snack, beverage, or restroom break, they must seek the permission of their teacher before leaving the large group.  If student teams wish to use the computer lab facility, they must be accompanied by their teacher. </a:t>
            </a:r>
            <a:endParaRPr b="0" lang="en-US" sz="32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4"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  Performance Expectation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will remain the primary responsibility of the teacher to facilitate learning activities with the school team.  Each teacher will work closely with their student teams.  Please establish consistent performance expectations for your school team.  Make sure that our standards remain high!</a:t>
            </a:r>
            <a:endParaRPr b="0" lang="en-US" sz="3200" spc="-1" strike="noStrike">
              <a:solidFill>
                <a:srgbClr val="000000"/>
              </a:solidFill>
              <a:latin typeface="Arial"/>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7"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Models of Learning Procedure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NEIU ~ NASA Endeavour Program is meant to be an positive learning experience for all and therefore we ask that you model learning procedures that will support the team to be successful as they work through this learning proces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0"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Exemplary Work</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you notice exemplary work by a student or a teacher throughout the Endeavour Program, please let us know!  We will highlight positive performance throughout the ye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3"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6)  NEIU NASA Endeavour Program Succes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uccess of our program depends upon the success of our students and teachers.  We will maintain the highest level of professionalism throughout this program!</a:t>
            </a:r>
            <a:endParaRPr b="0" lang="en-US" sz="32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Your Team!</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roughout this school year, you will work as a team to solve problems, research, become experts about a NASA Mission and design a product to educate others about NASA Missions and Solar Phenomenon</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NASA Astronauts prepare for a NASA mission, they collaboratively work to design a mission badge representative of the team mission, goals and aspi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01:16:17Z</dcterms:created>
  <dc:creator>NEIU</dc:creator>
  <dc:description/>
  <dc:language>en-US</dc:language>
  <cp:lastModifiedBy>sweiland</cp:lastModifiedBy>
  <dcterms:modified xsi:type="dcterms:W3CDTF">2009-10-19T00:10:18Z</dcterms:modified>
  <cp:revision>11</cp:revision>
  <dc:subject/>
  <dc:title>Slide 1</dc:title>
</cp:coreProperties>
</file>